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90A16-08AA-45A8-B56A-501775CD0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1FA01-F7CC-41A0-B622-BFD7D41AD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4FDFC-4549-41B3-B6DC-EEC54AF1D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F5654-4BA3-4110-B162-EF04CDBCF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D05C1-4D1D-42BF-814F-7CFD670F2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4BCE4-8537-4B0B-92CA-72B205398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0C0C4-4E51-4AF5-91EC-09E4ADBFF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000E6-6575-457A-A617-4E8705670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FAE63-0C84-49F0-B80E-566BE144D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74822-19F2-4783-B47F-6F24F7FC6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F5E96-B95C-4BE8-BB0C-C3A7E6533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EBB5A-CFCF-42E6-A7ED-15B460792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D4376-9BFD-4D5C-97D2-D9937B83935E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What </a:t>
            </a:r>
            <a:r>
              <a:rPr b="0" i="1" lang="en-GB" sz="4400" spc="-1" strike="noStrike">
                <a:solidFill>
                  <a:srgbClr val="000000"/>
                </a:solidFill>
                <a:latin typeface="Calibri"/>
              </a:rPr>
              <a:t>is</a:t>
            </a: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 she/he wearing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63280" y="3716280"/>
            <a:ext cx="5969160" cy="69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98989"/>
                </a:solidFill>
                <a:latin typeface="Calibri"/>
              </a:rPr>
              <a:t>A collection of images for use in teaching / describing clothing (in French but feel free to adapt for any language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4259160" cy="116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1f497d"/>
                </a:solidFill>
                <a:latin typeface="Calibri"/>
              </a:rPr>
              <a:t>Kate et Pippa Middlet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5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Kate porte...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avec ...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et...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Pippa porte...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avec ...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et...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À mon avis...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Content Placeholder 5" descr="kate-middleton-wedding.jpg"/>
          <p:cNvPicPr/>
          <p:nvPr/>
        </p:nvPicPr>
        <p:blipFill>
          <a:blip r:embed="rId1"/>
          <a:stretch/>
        </p:blipFill>
        <p:spPr>
          <a:xfrm>
            <a:off x="3575160" y="1274760"/>
            <a:ext cx="5111640" cy="38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12480" y="322200"/>
            <a:ext cx="4259160" cy="116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1f497d"/>
                </a:solidFill>
                <a:latin typeface="Calibri"/>
              </a:rPr>
              <a:t>La reine Elisabeth I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5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La reine porte...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avec ...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et...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À mon avis...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Content Placeholder 10" descr="queen-elizabeth-2-royal-wedding-590ssl042911.jpg"/>
          <p:cNvPicPr/>
          <p:nvPr/>
        </p:nvPicPr>
        <p:blipFill>
          <a:blip r:embed="rId1"/>
          <a:stretch/>
        </p:blipFill>
        <p:spPr>
          <a:xfrm>
            <a:off x="3808440" y="272880"/>
            <a:ext cx="4940280" cy="58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4259160" cy="116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1f497d"/>
                </a:solidFill>
                <a:latin typeface="Calibri"/>
              </a:rPr>
              <a:t>Mme Smit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5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Elle porte...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avec ...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et...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À mon avis...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Content Placeholder 6" descr="ef85d6c2-9f59-46b6-a1a4-edc213_jpg_scaled980.jpg"/>
          <p:cNvPicPr/>
          <p:nvPr/>
        </p:nvPicPr>
        <p:blipFill>
          <a:blip r:embed="rId1"/>
          <a:stretch/>
        </p:blipFill>
        <p:spPr>
          <a:xfrm>
            <a:off x="3749760" y="1414440"/>
            <a:ext cx="476244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4259160" cy="116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1f497d"/>
                </a:solidFill>
                <a:latin typeface="Calibri"/>
              </a:rPr>
              <a:t>??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5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ls portent...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avec ...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et...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À mon avis...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Content Placeholder 5" descr="5669295269_eda1ab8b64_b_jpg_scaled_1000.jpg"/>
          <p:cNvPicPr/>
          <p:nvPr/>
        </p:nvPicPr>
        <p:blipFill>
          <a:blip r:embed="rId1"/>
          <a:stretch/>
        </p:blipFill>
        <p:spPr>
          <a:xfrm>
            <a:off x="3419640" y="1211400"/>
            <a:ext cx="5111640" cy="44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4259160" cy="116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1f497d"/>
                </a:solidFill>
                <a:latin typeface="Calibri"/>
              </a:rPr>
              <a:t>Telma Orti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5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Elle porte...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avec ...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et...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À mon avis...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Content Placeholder 6" descr="TelmaOrtiz.jpg"/>
          <p:cNvPicPr/>
          <p:nvPr/>
        </p:nvPicPr>
        <p:blipFill>
          <a:blip r:embed="rId1"/>
          <a:stretch/>
        </p:blipFill>
        <p:spPr>
          <a:xfrm>
            <a:off x="4414680" y="476280"/>
            <a:ext cx="4118040" cy="59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4259160" cy="116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1f497d"/>
                </a:solidFill>
                <a:latin typeface="Calibri"/>
              </a:rPr>
              <a:t>Chelsy Dav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5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Elle porte...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avec ...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et...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À mon avis...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Content Placeholder 5" descr="001d0071-0000-0000-0000-000000000000_752821d3-f419-4088-b6e6-5d37299c6b30_20110429090904_article-1381800-0BD281B100000578-427_306x763.jpg"/>
          <p:cNvPicPr/>
          <p:nvPr/>
        </p:nvPicPr>
        <p:blipFill>
          <a:blip r:embed="rId1"/>
          <a:stretch/>
        </p:blipFill>
        <p:spPr>
          <a:xfrm>
            <a:off x="4954680" y="272880"/>
            <a:ext cx="2352600" cy="58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4259160" cy="116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1f497d"/>
                </a:solidFill>
                <a:latin typeface="Calibri"/>
              </a:rPr>
              <a:t>Zara Philli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5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Elle porte...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avec ...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et...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À mon avis...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Content Placeholder 5" descr="image-12-royal-wedding-a-look-at-guests-dresses-201828539.jpg"/>
          <p:cNvPicPr/>
          <p:nvPr/>
        </p:nvPicPr>
        <p:blipFill>
          <a:blip r:embed="rId1"/>
          <a:stretch/>
        </p:blipFill>
        <p:spPr>
          <a:xfrm>
            <a:off x="5867280" y="549360"/>
            <a:ext cx="202428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4259160" cy="116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1f497d"/>
                </a:solidFill>
                <a:latin typeface="Calibri"/>
              </a:rPr>
              <a:t>Un homme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5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l porte...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avec ...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et...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À mon avis...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Content Placeholder 6" descr="96333_2.jpg"/>
          <p:cNvPicPr/>
          <p:nvPr/>
        </p:nvPicPr>
        <p:blipFill>
          <a:blip r:embed="rId1"/>
          <a:stretch/>
        </p:blipFill>
        <p:spPr>
          <a:xfrm>
            <a:off x="4230720" y="549360"/>
            <a:ext cx="4157640" cy="55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1f497d"/>
                </a:solidFill>
                <a:latin typeface="Calibri"/>
              </a:rPr>
              <a:t>Joss Sto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Content Placeholder 4" descr="joss stone.bmp"/>
          <p:cNvPicPr/>
          <p:nvPr/>
        </p:nvPicPr>
        <p:blipFill>
          <a:blip r:embed="rId1"/>
          <a:stretch/>
        </p:blipFill>
        <p:spPr>
          <a:xfrm>
            <a:off x="5135400" y="343080"/>
            <a:ext cx="1990800" cy="57132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5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Elle porte...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avec ...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et...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À mon avis...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610080" cy="116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1f497d"/>
                </a:solidFill>
                <a:latin typeface="Calibri"/>
              </a:rPr>
              <a:t>David et Samantha Camer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434960"/>
            <a:ext cx="300816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Elle porte...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avec ...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et...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l porte...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avec ...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et...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À mon avis...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Content Placeholder 5" descr="David-and-Samantha-Cameron_jpg_e_23abe66501078f41ad6851658d1e8d06.jpg"/>
          <p:cNvPicPr/>
          <p:nvPr/>
        </p:nvPicPr>
        <p:blipFill>
          <a:blip r:embed="rId1"/>
          <a:stretch/>
        </p:blipFill>
        <p:spPr>
          <a:xfrm>
            <a:off x="4427640" y="692280"/>
            <a:ext cx="3960720" cy="52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394080" cy="116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1f497d"/>
                </a:solidFill>
                <a:latin typeface="Calibri"/>
              </a:rPr>
              <a:t>Lady Tara Palmer-Tomkins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5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Elle porte...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avec ...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et...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À mon avis...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Content Placeholder 6" descr="TARA-PT-GETTY-stor_1883675a.jpg"/>
          <p:cNvPicPr/>
          <p:nvPr/>
        </p:nvPicPr>
        <p:blipFill>
          <a:blip r:embed="rId1"/>
          <a:stretch/>
        </p:blipFill>
        <p:spPr>
          <a:xfrm>
            <a:off x="4702320" y="1027080"/>
            <a:ext cx="285732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1f497d"/>
                </a:solidFill>
                <a:latin typeface="Calibri"/>
              </a:rPr>
              <a:t>Miriam Cleg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5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Elle porte...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avec ...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et...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À mon avis...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Content Placeholder 8" descr="nick_clegg_miriam_g_252500z.jpg"/>
          <p:cNvPicPr/>
          <p:nvPr/>
        </p:nvPicPr>
        <p:blipFill>
          <a:blip r:embed="rId1"/>
          <a:srcRect l="20662" t="0" r="33405" b="0"/>
          <a:stretch/>
        </p:blipFill>
        <p:spPr>
          <a:xfrm>
            <a:off x="4788000" y="549360"/>
            <a:ext cx="2736720" cy="55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4259160" cy="116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1f497d"/>
                </a:solidFill>
                <a:latin typeface="Calibri"/>
              </a:rPr>
              <a:t>Princesse Eugenie et Princesse Beatr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5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Eugenie porte...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avec ...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et...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Beatrice porte...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avec ...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et...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À mon avis...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Content Placeholder 5" descr="Princess-Eugenie-and-Princess-Beatrice1.jpg"/>
          <p:cNvPicPr/>
          <p:nvPr/>
        </p:nvPicPr>
        <p:blipFill>
          <a:blip r:embed="rId1"/>
          <a:stretch/>
        </p:blipFill>
        <p:spPr>
          <a:xfrm>
            <a:off x="4932360" y="404640"/>
            <a:ext cx="3014640" cy="603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4259160" cy="116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1f497d"/>
                </a:solidFill>
                <a:latin typeface="Calibri"/>
              </a:rPr>
              <a:t>David et Victoria Beckh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5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Elle porte...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avec ...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et...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l porte...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avec ...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et...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À mon avis...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Content Placeholder 8" descr="beckhams_royal_wedding.jpg"/>
          <p:cNvPicPr/>
          <p:nvPr/>
        </p:nvPicPr>
        <p:blipFill>
          <a:blip r:embed="rId1"/>
          <a:srcRect l="24870" t="0" r="35269" b="0"/>
          <a:stretch/>
        </p:blipFill>
        <p:spPr>
          <a:xfrm>
            <a:off x="4427640" y="404640"/>
            <a:ext cx="3097080" cy="601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4259160" cy="116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1f497d"/>
                </a:solidFill>
                <a:latin typeface="Calibri"/>
              </a:rPr>
              <a:t>Des filles.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5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Elles portent...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avec ...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et...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À mon avis...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Content Placeholder 5" descr="article-1304085675797-0BD3595800000578-41429_466x310.jpg"/>
          <p:cNvPicPr/>
          <p:nvPr/>
        </p:nvPicPr>
        <p:blipFill>
          <a:blip r:embed="rId1"/>
          <a:stretch/>
        </p:blipFill>
        <p:spPr>
          <a:xfrm>
            <a:off x="3575160" y="1438200"/>
            <a:ext cx="5111640" cy="35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272880"/>
            <a:ext cx="4259160" cy="116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1f497d"/>
                </a:solidFill>
                <a:latin typeface="Calibri"/>
              </a:rPr>
              <a:t>Prince Harry et Prince Willi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5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Harry porte...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avec ...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et...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William porte...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avec ...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et...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À mon avis...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Content Placeholder 6" descr="mcx-prince-and-brother-in-church-de.jpg"/>
          <p:cNvPicPr/>
          <p:nvPr/>
        </p:nvPicPr>
        <p:blipFill>
          <a:blip r:embed="rId1"/>
          <a:stretch/>
        </p:blipFill>
        <p:spPr>
          <a:xfrm>
            <a:off x="4344840" y="817560"/>
            <a:ext cx="357192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1T09:58:07Z</dcterms:created>
  <dc:creator>Jo Rhys-Jones</dc:creator>
  <dc:description/>
  <dc:language>en-US</dc:language>
  <cp:lastModifiedBy>Jo Rhys-Jones</cp:lastModifiedBy>
  <dcterms:modified xsi:type="dcterms:W3CDTF">2011-05-01T10:38:45Z</dcterms:modified>
  <cp:revision>5</cp:revision>
  <dc:subject/>
  <dc:title>What is she/he wearing?</dc:title>
</cp:coreProperties>
</file>